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C9E-8A74-448B-9275-317D3CDE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591-F39E-47E5-9094-E3FBAE9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FF5-870E-4A17-A2EB-906B1C98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A86-F154-444F-A94F-043D0AD9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01DD-18DA-43FE-A553-4187078B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1D3-B57A-4B7E-88BA-8252D7A1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FCE9-7374-40BF-8EF0-5EED7B45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90B0-C86C-4C3E-A58C-9106DC6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70EE-EA4C-4067-AF2C-86B9EBE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463F-0340-459D-B1AC-C88E199F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2E4E-57AB-4D4D-9C71-C485257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FF1-5E67-4013-B89D-5479BCE3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6BBC-26C4-4852-8F74-C0023C6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C061-001D-4A89-B4D9-0348A8A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CD81-D70B-46D7-833D-5ED712AC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4923-2FC0-433C-B69A-71AE7074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EC8C-6D26-4672-89C2-DE6FD575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2444-4171-4255-9092-8437D296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2849-F006-4CBC-A227-9F6E487A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7FD2-89B4-4953-9817-01DCE7AE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6267-C9A8-4FFE-BD0A-83527D40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8B42-E8A2-48BE-B643-EFA2379C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5E1-3D2B-4AA6-A835-850E19C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6B44-2B73-4A5F-B2F6-D9AAC8FB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ED0A-4525-40B7-90B3-FF48656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9889-2C59-488D-AEFB-57EA392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B46C-D66D-485B-A407-3ED48BB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52F6-A2A4-4181-B11E-5918B07D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EA01-5904-48BB-856D-EB102FEB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8256-0EB3-48A8-842B-C9B3238D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059-6DDE-4F78-BCCC-A68A761E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E68-E2F5-4CF6-AD45-9465F497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039-2022-46CE-B27C-5906F90E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21A-CD56-4F81-BA4C-ACA8018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4BB-6216-4248-959D-0F5F713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C20-4DB4-4C48-AA08-2C451EA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3CC3-86A3-4B38-A24C-5DF8674F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Click to edit the title text format</a:t>
            </a:r>
            <a:endParaRPr b="1" lang="en-US" sz="2800" spc="-1" strike="noStrike">
              <a:solidFill>
                <a:srgbClr val="ff9900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28120" y="2205000"/>
            <a:ext cx="8147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5F88-8A21-4A47-8773-FC9B1E512D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2072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1773000"/>
            <a:ext cx="5256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Click to edit the title text format</a:t>
            </a:r>
            <a:endParaRPr b="1" lang="en-US" sz="2800" spc="-1" strike="noStrike">
              <a:solidFill>
                <a:srgbClr val="ff99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2FAD-6E86-49D6-B94F-1C41A45F09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2072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7/07/banc_de_sang_5_seconds.php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bannerblog.com.au/2008/01/mini_smile.php" TargetMode="External"/><Relationship Id="rId4" Type="http://schemas.openxmlformats.org/officeDocument/2006/relationships/hyperlink" Target="http://www.bannerblog.com.au/2006/11/mini_floor_it.php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5/09/athletica_run_and_li.php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8/01/frank_love_story.php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7/07/virgin_bets_big_brother_balloons.php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7/07/the_red_thread.php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6/12/vw_like_a_rabbit.php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8/01/just_ski.php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7/06/adidas_line_runner.php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6/05/diageo_cacique.php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6/05/nike_play.php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news" TargetMode="External"/><Relationship Id="rId3" Type="http://schemas.openxmlformats.org/officeDocument/2006/relationships/hyperlink" Target="http://www.bannerblog.com.au/news" TargetMode="External"/><Relationship Id="rId4" Type="http://schemas.openxmlformats.org/officeDocument/2006/relationships/hyperlink" Target="http://www.bannerblog.com.au/news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6/07/test.php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7/11/apple_sign.php" TargetMode="External"/><Relationship Id="rId3" Type="http://schemas.openxmlformats.org/officeDocument/2006/relationships/hyperlink" Target="http://www.bannerblog.com.au/2007/05/apple_pc_world.php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oap.com.au/fox/jumper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nerblog.com.au/2006/07/house_visit.php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87640" y="2023920"/>
            <a:ext cx="464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 </a:t>
            </a:r>
            <a:r>
              <a:rPr b="1" lang="en-AU" sz="2600" spc="-1" strike="noStrike">
                <a:solidFill>
                  <a:srgbClr val="ff6600"/>
                </a:solidFill>
                <a:latin typeface="Century Gothic"/>
              </a:rPr>
              <a:t>(2008 edi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9280" y="3357720"/>
            <a:ext cx="39974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Ashley Ring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Gothic"/>
              </a:rPr>
              <a:t>Soap Creative &amp; Banner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5049720"/>
            <a:ext cx="214308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48000" y="4905360"/>
            <a:ext cx="154764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7938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NIM [ES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74464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2643840"/>
            <a:ext cx="8316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verts with interactivity are recalled 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63% more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n standard 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75% of all statistics are made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79640" y="123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lue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32000" y="2457360"/>
            <a:ext cx="2857680" cy="238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95640" y="508464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08464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loor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M9 DDB [B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79640" y="2529000"/>
            <a:ext cx="33908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rofero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66920" y="2637000"/>
            <a:ext cx="28576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LMFM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60028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ublicis [A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70828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914920"/>
            <a:ext cx="8316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nners that 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entertain the audienc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re than the content on th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79640" y="1233360"/>
            <a:ext cx="41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Passive Entertai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LMFM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03640" y="260028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lmap BBDO [B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419640" y="260028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0000" y="1628640"/>
            <a:ext cx="84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ith great power comes great responsibility”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n 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2997360"/>
            <a:ext cx="84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th so many ways to </a:t>
            </a:r>
            <a:r>
              <a:rPr b="0" lang="en-AU" sz="1800" spc="-1" strike="noStrike">
                <a:solidFill>
                  <a:srgbClr val="ff6600"/>
                </a:solidFill>
                <a:latin typeface="Arial"/>
              </a:rPr>
              <a:t>use technology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it can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come daunting to know where to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3158640"/>
            <a:ext cx="83167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You can’t spend 5 minutes playing with a T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79640" y="1233360"/>
            <a:ext cx="41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P+B [U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60028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oss [S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2168640"/>
            <a:ext cx="24004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M9 DDB [B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419640" y="267336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etthink [E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51280" y="1557360"/>
            <a:ext cx="5286240" cy="43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2914920"/>
            <a:ext cx="8316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other half of vid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can be annoying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but when used right </a:t>
            </a:r>
            <a:r>
              <a:rPr b="0" lang="en-AU" sz="2000" spc="-1" strike="noStrike">
                <a:solidFill>
                  <a:srgbClr val="ff6600"/>
                </a:solidFill>
                <a:latin typeface="Arial"/>
              </a:rPr>
              <a:t>can be very power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79640" y="1233360"/>
            <a:ext cx="410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oubleYou [E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51280" y="2744640"/>
            <a:ext cx="32572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oubleYou [E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28760" y="3000240"/>
            <a:ext cx="468648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2702160"/>
            <a:ext cx="83167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eep a strong idea and hit more than one area</a:t>
            </a:r>
            <a:br>
              <a:rPr sz="2000"/>
            </a:br>
            <a:r>
              <a:rPr b="0" lang="en-AU" sz="1400" spc="-1" strike="noStrike">
                <a:solidFill>
                  <a:srgbClr val="ff6600"/>
                </a:solidFill>
                <a:latin typeface="Arial"/>
              </a:rPr>
              <a:t>(easier said than done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you’re bound to have a kick ass campa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3160440"/>
            <a:ext cx="83167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r just add a dash of sex app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0000" y="1628640"/>
            <a:ext cx="84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ith great power comes great responsibility”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n 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280" y="2997360"/>
            <a:ext cx="84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best place to start is a </a:t>
            </a:r>
            <a:r>
              <a:rPr b="0" lang="en-AU" sz="1800" spc="-1" strike="noStrike">
                <a:solidFill>
                  <a:srgbClr val="ff6600"/>
                </a:solidFill>
                <a:latin typeface="Arial"/>
              </a:rPr>
              <a:t>good ide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rand Union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28576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DM9 DDB [B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240000" y="270828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rand Union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392720" y="1521000"/>
            <a:ext cx="1133280" cy="45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Limmat [CH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509616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2241360"/>
            <a:ext cx="83167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6600"/>
                </a:solidFill>
                <a:latin typeface="Arial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2920" y="3015000"/>
            <a:ext cx="83167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presentation will be available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annerblog.com.au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new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6600"/>
                </a:solidFill>
                <a:latin typeface="Arial"/>
              </a:rPr>
              <a:t>Contact: ash@soap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341360"/>
            <a:ext cx="644544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ere are five areas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6600"/>
                </a:solidFill>
                <a:latin typeface="Arial"/>
                <a:ea typeface="Arial"/>
              </a:rPr>
              <a:t>interactive advertising excel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nd what no other medium can offer simultane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2744640"/>
            <a:ext cx="295272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assive 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741760"/>
            <a:ext cx="295272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987920"/>
            <a:ext cx="831672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marL="291960" indent="-29196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deo can enhance your communication considerably and engage the audience in a way text and graphics alone cannot. 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a TVC in a 300x250 </a:t>
            </a:r>
            <a:r>
              <a:rPr b="1" lang="en-AU" sz="1800" spc="-1" strike="noStrike">
                <a:solidFill>
                  <a:srgbClr val="ff6600"/>
                </a:solidFill>
                <a:latin typeface="Arial"/>
              </a:rPr>
              <a:t>is bo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video being shot exclusively for on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09760" y="3114720"/>
            <a:ext cx="4524480" cy="628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Lean Mean Fighting Machine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hiat Day [U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11640" y="5084640"/>
            <a:ext cx="936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9640" y="5084640"/>
            <a:ext cx="1260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C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987640" y="249228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OAP [A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2492280"/>
            <a:ext cx="55911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79640" y="1233360"/>
            <a:ext cx="295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1640" y="1230480"/>
            <a:ext cx="64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89000"/>
            <a:ext cx="67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Kick Ass!</a:t>
            </a:r>
            <a:br>
              <a:rPr sz="2600"/>
            </a:br>
            <a:r>
              <a:rPr b="1" lang="en-AU" sz="2600" spc="-1" strike="noStrike">
                <a:solidFill>
                  <a:srgbClr val="000000"/>
                </a:solidFill>
                <a:latin typeface="Century Gothic"/>
              </a:rPr>
              <a:t>Online Creative 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886040"/>
            <a:ext cx="3456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rofero [U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920" y="1881360"/>
            <a:ext cx="936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00"/>
                </a:solidFill>
                <a:latin typeface="Arial"/>
              </a:rPr>
              <a:t>A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2565360"/>
            <a:ext cx="28573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5:29:39Z</dcterms:created>
  <dc:creator>User</dc:creator>
  <dc:description/>
  <dc:language>en-US</dc:language>
  <cp:lastModifiedBy>Ashley Ringrose</cp:lastModifiedBy>
  <dcterms:modified xsi:type="dcterms:W3CDTF">2008-03-16T12:48:16Z</dcterms:modified>
  <cp:revision>708</cp:revision>
  <dc:subject/>
  <dc:title>Slide 1</dc:title>
</cp:coreProperties>
</file>